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8455-B4CB-4BAA-85DB-53E3ECB62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F885-C371-407B-B1F2-8A491A08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85628-F705-4331-80EF-31E312D7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9A215-9E6F-4DFA-8830-B0ED1E58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805E9-80E1-411E-A2F4-8C6636A1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F8C86-7D81-4BC2-A654-D1F6BFCD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88AC1-0D08-4B33-811C-5B57CB56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59D0E-F1F9-4EDC-B319-4A1AECCD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1B0DD-BCE5-42D6-8A16-00A3A8A3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A567C-C671-4952-AE53-8C1D31E8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B2458-32A1-4743-B2F7-BD1A0DD9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0DA47-0E5C-4A91-840D-3F75E9BF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79F5-34D6-4736-BBA2-41DA982D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9DE15-DFB2-4228-9908-0D09C2EC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C7BBB-3ECF-4BB9-A74C-5DFDF4BD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01C6F-43C7-438E-9AC2-69FBC3CB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15D9D4-2C4F-461F-ADFA-1BB97E9A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0F04A-A6A8-42FC-A7B4-D2EDC9E8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CD44C-4724-4B07-92B4-EBCBAAAB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6C4F9-4264-4A90-A786-0F6FE4AE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B2A48-858F-4FB5-B4DC-EF38B35E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25178-A753-4F63-AAEF-FE975FEC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C80B9-2748-437C-AFE2-4CB6EEB0A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A84D-F050-4C90-8B72-A587D6D0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32F9EB-B8AA-4C09-92B3-27BB2E4AC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DDEA3-9900-4651-8A52-C88AAE9FC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4E22A-95B0-4C9E-A476-92882407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CC3C8-E602-4D37-A019-AA2FE11F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03684-2CDD-4218-BA8D-84BE7C90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82B35-45B1-46D9-8AD4-A4D1A1AF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6B874-DEB4-4FE9-89F7-FDABEFEC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E64E9-B1D4-4625-96C8-D110557A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6F9DD-C112-4F4B-9DBF-4D03A482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B3F68-2C73-4AFC-A634-75BB25E8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59F8-F58D-4109-9F9C-CD72A172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C9309-2679-4E7E-B7D1-F3FB46BC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BFEF1-0935-44B6-A374-7461791B6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9A683-F0AA-40FC-BD65-82B5CF8E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9DE67-65B6-4A19-AA24-02679375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4807AB-DFC3-4C25-8CB4-F860769B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42EB45-C230-4259-ADF3-E881AAD0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2060BF-2626-406C-A6DF-ED20D905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173C9-0023-4B66-9BDC-E7D9A2E0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60665-6BFD-4582-8403-D2AC1B54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6036C-1BE5-497E-B0E5-62DAD2AE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8084-2CD8-4F69-B207-C14741A6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A4359-C6F7-4730-B93A-DED6F4A7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B0BA4-0047-4A93-AD93-ECAD8413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F30B90-CE13-477F-B072-27279979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1EDD5-E161-48FE-8C66-D11635F4D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A36B8E-0ADD-4877-8A57-A2C57A8B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F30CB9-6C4B-44AB-B3F4-E4186A12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03BA47-6F66-45D2-B408-5FB73DDE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08EF18-17F5-4152-B38B-F47DB7ED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4A431B-8319-4CD0-B43A-70698277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8F0C80-6A4A-4538-B411-8DBA859A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D4E4-658A-46DA-A0A1-7F87DF0B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13A819-7782-4E5E-B9E6-05FE96CE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E47C66-5CD2-4DCB-8ED9-54CFCC4F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922B72-F036-43D7-83FC-E91A9563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322FAE-B329-4F8A-B636-ADD6E832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0437D0-E639-4BFE-A346-E95CC0B0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A6CC66-3A8A-48CF-A42F-C03A778B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DC93DD-C544-4028-A404-BED544CB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6A9510-C413-4926-8910-25629474F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1F5FB2-7359-4185-AF82-4F5A0E90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64B69F-32C9-466A-A976-95CF14F0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20D8-F290-4B3A-9C8C-0F396F8B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6FB736-952D-4BE0-ADE2-414F3480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426127-C9EE-49B7-8671-85555333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B382CB-D27B-43F8-B953-3A01BE5A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85D846-BB46-41DA-889C-88B196A1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D0252A-3B92-47B0-8635-1264B991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55DA30-B15C-4838-B18E-BA850CA5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6F122F-E8C4-4E88-89BF-4037C9F3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F7C9E9-5B65-4A3C-9A21-255F73991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7D153D-9CD9-47D1-80A8-5D76F5AD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0A0BD4-6F0A-4F07-8365-218774ED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C920-59A5-465B-A8A0-5EADB45C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0FE4CF-7AFE-461F-8C46-1EB113E6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7A4E3B-ED96-44CB-8192-B505EE0F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298C19-10DD-4B13-9F51-4FCFC610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0ADB9B-F28A-4642-A2B0-26A1E75D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DBFA85-B97B-4AD1-A5E7-F529D354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D5BE25-D8F7-4BE9-B4E6-CEC44058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DAF702-A6EE-41C9-A99D-31142DB0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4F19DC-03E1-4516-B1EF-24E25B3B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C60A97-2722-4014-BE81-2D76954F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27D918-089F-48E2-B66B-498E90879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A182-E991-4D07-893D-88DDFCBE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53E2C6-9724-45F6-9946-DEB96E34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93138A-D9FC-421F-81AA-7D46EFC1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405415-329E-4855-9AEE-B7B978C2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8D1F76-611E-48CC-A7F0-16FA82C0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5C64C6-752D-4346-8D42-43D1D277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9F64DF-F7E0-43EF-A56D-A52B521B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96DDFA-D799-489E-9FCF-7B93FD24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ACF574-8E16-4227-8A81-E021B4FD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9FB3D8-1791-4124-84A8-6B175CE6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67D1BB-9ACC-4FF5-8C7E-BBD5E9F2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5488-24AE-4C24-AE72-7781F2D9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900284-A574-447B-A0A1-E918D28B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50A264-AFFC-4702-9B21-F388AA07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114C94-1699-4102-ACE8-8023F8F5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DF571C-D358-40D7-9B86-0BD4918A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50E2F0-612C-43F8-8CE5-B4E63D75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0A1812-47E6-426A-B1CE-2E032C26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352508-11C0-4D34-8003-D919005B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B01271-9ABA-45F9-9B18-22FE4B8F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299D36-6C99-4FBE-ABDF-99EBA482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275E40-81C5-4584-8419-C20F72A9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0C35-615F-4CCB-8798-F4E2358E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B99C-6D0B-44CC-BE29-010E5104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03F7D3-5457-4142-9B69-94BEE791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984E6E-4792-4F74-A285-10E301CC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DC5826-9A0C-44BD-9413-45E546C5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DE2741-F79A-4CB6-927F-6F8C80391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19EAF6-4BAE-4813-9390-0064A3EA1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D2FE80-6FC6-4637-A2C7-BB1BDED7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9C53F1-AD3F-4BA9-B952-0F569085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601EB5-95DE-45F3-A559-FBCDEFEA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41DA38-5362-4AFD-AA15-86914F4C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7D87C3-53DE-4246-AD28-A3D4E828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D942-4FCD-4F43-90A8-0AF41234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D0BA6A-3DF5-41FD-9E82-416AA04A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06D68F-A078-4036-BDEA-41849E89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9DB0FC-812C-4204-9F27-F4C5B0B1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FD1E7A-8841-4E24-A698-98F5B8E9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1D3012-150C-48FE-AE2C-3F70823B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1691F0-B6C6-452F-A687-186BC4C7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0379BE-EFA1-48E9-A145-8D788ED21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3FF734-A20F-4E0D-8D6B-564DB23FD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D758C2-ED29-4410-AEE7-66014EA8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8CB08D-DC26-4A34-B838-09D041D3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E077-3F86-4F2A-9098-E6FBC398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51350C-0EF7-4483-90C5-E009712D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B9FCD2-576E-43E0-B5C4-B3340DA1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063F91-45CF-40A3-89C4-3792C5DF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85E299-B6A6-4874-AAF9-85ECB99B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D3D935-6A85-4A0D-85E7-01366748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5F1B1A-8022-470C-9B11-A5FDA0D1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D3BCE6-5072-46E1-9809-5B92D223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AA395E-DA3B-4CCB-9B46-2FC3C86DF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40CB37-77CD-4190-B454-C7A85DFD2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DEEFC6-A449-4790-A245-D0703FF3C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70C3-5788-4921-A4FE-3313AA60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F759C5-7CB3-439D-B209-E2BE95C0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85CDEE-FBC8-4E46-9F86-3081F6A5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7B12E8-C559-444C-9889-F275EDA2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3CAAD8-C040-4C8B-B000-BF49FA8C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E287C5-A692-488E-A6E3-67F83819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DFC105-3A8F-460E-B6EB-9055CCDF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58F9AC-6655-4C40-8EF3-FF084BFE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2FD29D-0A98-4514-B6BE-9CE32721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3E6DE4-2FE7-4291-BF88-6191782B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B36226-6514-4A4B-A280-F43591BC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BD43-966B-4434-B409-3E885FB55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80D389-628E-484B-846A-04C7718B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3C7652-B3C3-412B-AF35-765DAFA0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27C2EF-D2BA-4FD3-9400-71605E09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39CF67-1D7B-44D9-A1A6-2EACA366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D13D7D-9347-4FDB-B86C-FA1481FF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90E2C4-9C3A-4D5F-888D-E36F7B24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035C5A-CC8A-4C73-A42F-38D88524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0B1808-F9E5-4100-8418-1497AF0F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6B2250-CD53-43E8-971B-9FD98436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C95B99-88C8-4532-9437-D13C634D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4F4D5-5212-4BB5-88F1-564C78F6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BABA63-37AA-42AB-8299-5DA0742B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F70D2B-9515-4B20-BA7D-73BBEEC8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FC91D2-FB78-497D-A2B0-49C548FA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DC06E-54A3-4342-9394-1F98CECF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3262F-7A7A-409E-ADE5-F96E6636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EECE3-3CB5-4515-9100-E30BE36E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02B5B-9C57-43AC-9783-B441A33B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6E96-446B-4767-ADBD-6C89E27A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3215E-FEF6-4248-BB5B-CB7BA300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532F2-C8D1-4DB0-924D-961F8925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5F1B3-17F2-4A54-8534-3E5FC567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982C7-B94B-45EE-9C0E-68898FFD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A1A69-B142-4637-97B1-3FDA0F5C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201F1-F1CD-419D-AC4B-C37F2A340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72D16-DBDD-4FC4-9B94-9E3AFA91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FB5C7-C582-4D68-9791-A7FED5DE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B78C3-2567-4DCD-A990-A9F33503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38436-E5E6-4925-8C66-1BFC937F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52A0-A9A4-461B-9F82-99C3E67A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7903A-F876-4ED3-AA63-2464036F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C46C7-4663-4470-BA29-6FAAAC2B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3CF13-3123-4237-9C61-E8533A42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AC6B5-D5FB-4D52-8686-2059335F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2BC51-B6AC-4CD1-810F-C9F01D81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5E9BA-FD54-4320-9DAB-17F075E8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7B53E-3C00-4A59-A89A-1E925652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5BCB3-E30A-4425-8979-EBE87F347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7CCC8-A27A-41E5-B15A-D1B7F17D3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C78FA-5DCF-466E-81B4-F0F7169C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F055-4C9F-4BE0-A2C4-F6F9E6EC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BCBE5-6751-438F-A83D-8DB6A556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27753-C0F9-4EBD-9674-1254F856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21EF9-A04E-4D56-A234-BF64F896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F30E5-C4DE-41E7-95D3-BE8ABB3D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6C98A-958C-45BC-8842-584E0662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C33F2-8B77-4B72-82DB-2F2D97CD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FA06D-F182-4688-B780-E710CAB3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BF8DD-3F0C-40CA-98E1-4D987439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E0160-9F63-4247-A558-3CB72A26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28FB7-CAFB-40BE-B3A3-F6EE75672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9D2E-0E66-4CEB-920B-98BBA4FB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D1078-FACA-4796-AA09-284C085F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232A7-86AE-464C-95AA-F3D07F66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75477-45E5-4D9B-8E75-4470BBD3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473CE-7659-404A-A4A8-4B3C0B60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3286C-A96C-4A1E-BAC1-9328CB18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D2853-6891-484D-A1F5-8A73B205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133BD-2CF5-44B2-A3F3-6D0AC923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DF246-7036-42C8-A728-066FB7C5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F1D59-90CB-4B8D-B3BD-04579891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7B115-9BCA-4AD2-BC7A-4ADD5DCB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21D1-95DE-472A-8E6D-08095AA0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EAB41-0706-4385-87F9-302EAE2D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66B69-F2E7-4DAC-8C50-B9C884E02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A9804-9301-45D8-880B-BC37D018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5B37B-0B80-42FD-9CA9-EBD54E2A0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AB99E-3B91-4032-9634-CD3280BA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39784-D59A-4516-B56F-39C25C4D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7B0AB-E872-4E1A-94D1-3AB22B1A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8E80D-A041-4CC0-804B-D6CA6AB8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95D6B-1FF5-4A52-958B-5D803564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86C9F-E6BE-494D-B357-644CE944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5CA3-6CCA-4497-AF95-2286E9C8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33C96-73B4-4B98-9561-AC513EF5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57672-B742-49ED-BA3A-953BAC2A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D74C8-EE10-4A9C-A73E-A39A4626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BB243-7FE0-4EE7-81B4-A238D1732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18B8F-6721-4E12-B8A8-157753E13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40174-D4A0-4DFC-9D27-A3860B9F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6B481-8A21-4D04-AECF-7D01F3DC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0ED0F-E06D-4CF6-B671-B1970A90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3C11B-DDCE-47FF-BEA7-5B59C47A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D6C76-6FC4-4255-AAC1-4E894DF8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7F47-4EE8-4536-A4BD-913A0802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6A55E-A3C5-4A0F-AEC3-4970522E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50C9E-7788-49D7-9972-CC009B93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4DDA8-5E76-4EB7-B309-0369F264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A42DB-E7E9-4496-8B9F-67B8A36F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B4F5C-10FE-45C6-B745-10380E1F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0EB4C-8569-4E9E-AA82-63329BAA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A2B45-46DA-4DE8-B5D2-7CB72ACB6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70147-51FB-43CD-9613-927DEAEE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17320-8A2F-4231-A79B-5C164FE6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0A842-C42A-4C6B-9D01-BF5A20BF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5192-CD40-480B-B4D7-908448AA51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1B12-9C17-455B-8CB2-54AF034F4A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8D8E-E256-46D9-8C62-21BA0E6AF4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8AF5-8FD3-4D49-9953-0FF1E78FFE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A3CF-21A0-4481-AE6C-07D36F358B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1EE9-92E1-4604-AB7B-C1F968D152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6229-0C01-46ED-8859-51F5CDB126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1BCC-F083-4127-BCED-D071F1E8C7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FDC5-FD3A-47EB-BBC8-0B77E914C3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906D-E54F-4ED5-8279-BF00CECC83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4C01-4FEA-400A-B1B0-4C40490B6C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1C09-66B5-4C5A-AB2B-EC0C3ABCD9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0D84-0D10-4B49-81B2-E681661EB0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9FAF-F990-4E19-AA6B-E679AF3506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AA89-C9C0-426C-A472-ECB2DEDD34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6824-A298-4055-8421-7FD0130E26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063B-5D15-4484-8C58-5C69995D41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EE03-EBC4-49C2-A67F-AFBD6A5030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38CC-A53B-4C89-8CC9-070E8BD244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0FFF-3FB1-463C-9595-7F3690557A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8631-88C8-4B94-86E2-9D9A496268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5770-88A0-4078-B5B0-13D65486F3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85F0-EFDE-4396-9978-76E840DCC3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846C-A616-44CD-A356-D87182DCD2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923B-CB6F-4CBC-82CE-FEEEE08C17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1A89-6C38-4B1C-B5B9-335049A16E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13DD-DAEC-450E-8DAD-144BAB413A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207B-265C-4601-B7B1-C81FF94BBF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C6A9-9CB5-4A22-A64A-4893817672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EDE2-1E41-41FE-A56D-BA3772B04E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1F66-A38A-445B-A502-39569AB474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B022-9B45-4483-9B71-70EE0FDA0B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D984-D432-476B-B264-29CEAEF6A5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D369-311F-4A72-887E-7A26C814DD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7877-A828-4960-AA6E-1954600874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7EF8-4763-4981-AC20-2384267812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7DF0-F942-44C5-B79A-1D19B800F7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4251-DDD7-48F0-BFB5-A3413BA1E3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25B6-4655-4C30-8212-4C0F7BDE5C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4BDA-F12F-4450-8227-67F9475B84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1066680" y="1517760"/>
            <a:ext cx="7010640" cy="1190520"/>
          </a:xfrm>
          <a:prstGeom prst="rect">
            <a:avLst/>
          </a:prstGeom>
          <a:ln w="0">
            <a:noFill/>
          </a:ln>
        </p:spPr>
      </p:pic>
      <p:pic>
        <p:nvPicPr>
          <p:cNvPr id="1023" name="图片 28679" descr=""/>
          <p:cNvPicPr/>
          <p:nvPr/>
        </p:nvPicPr>
        <p:blipFill>
          <a:blip r:embed="rId2"/>
          <a:stretch/>
        </p:blipFill>
        <p:spPr>
          <a:xfrm>
            <a:off x="1871640" y="3127320"/>
            <a:ext cx="54007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图片 69633" descr=""/>
          <p:cNvPicPr/>
          <p:nvPr/>
        </p:nvPicPr>
        <p:blipFill>
          <a:blip r:embed="rId1"/>
          <a:stretch/>
        </p:blipFill>
        <p:spPr>
          <a:xfrm>
            <a:off x="228600" y="946080"/>
            <a:ext cx="8686800" cy="521964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2"/>
          <a:stretch/>
        </p:blipFill>
        <p:spPr>
          <a:xfrm>
            <a:off x="8101080" y="2205000"/>
            <a:ext cx="50472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图片 68609" descr=""/>
          <p:cNvPicPr/>
          <p:nvPr/>
        </p:nvPicPr>
        <p:blipFill>
          <a:blip r:embed="rId1"/>
          <a:stretch/>
        </p:blipFill>
        <p:spPr>
          <a:xfrm>
            <a:off x="233280" y="1009800"/>
            <a:ext cx="8677440" cy="48384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2"/>
          <a:stretch/>
        </p:blipFill>
        <p:spPr>
          <a:xfrm>
            <a:off x="1979640" y="3298680"/>
            <a:ext cx="1655640" cy="86544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3"/>
          <a:stretch/>
        </p:blipFill>
        <p:spPr>
          <a:xfrm>
            <a:off x="2556000" y="5229360"/>
            <a:ext cx="295272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图片 67586" descr=""/>
          <p:cNvPicPr/>
          <p:nvPr/>
        </p:nvPicPr>
        <p:blipFill>
          <a:blip r:embed="rId1"/>
          <a:stretch/>
        </p:blipFill>
        <p:spPr>
          <a:xfrm>
            <a:off x="195120" y="687240"/>
            <a:ext cx="8753760" cy="598176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2"/>
          <a:stretch/>
        </p:blipFill>
        <p:spPr>
          <a:xfrm>
            <a:off x="8416800" y="793800"/>
            <a:ext cx="505080" cy="47304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3"/>
          <a:stretch/>
        </p:blipFill>
        <p:spPr>
          <a:xfrm>
            <a:off x="755640" y="1600200"/>
            <a:ext cx="2303640" cy="47304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4"/>
          <a:stretch/>
        </p:blipFill>
        <p:spPr>
          <a:xfrm>
            <a:off x="684360" y="4767120"/>
            <a:ext cx="6551640" cy="8938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5"/>
          <a:stretch/>
        </p:blipFill>
        <p:spPr>
          <a:xfrm>
            <a:off x="539640" y="5748480"/>
            <a:ext cx="6551640" cy="89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图片 66562" descr=""/>
          <p:cNvPicPr/>
          <p:nvPr/>
        </p:nvPicPr>
        <p:blipFill>
          <a:blip r:embed="rId1"/>
          <a:stretch/>
        </p:blipFill>
        <p:spPr>
          <a:xfrm>
            <a:off x="1376280" y="1900080"/>
            <a:ext cx="6391440" cy="305784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2"/>
          <a:stretch/>
        </p:blipFill>
        <p:spPr>
          <a:xfrm>
            <a:off x="1403280" y="1916280"/>
            <a:ext cx="6769080" cy="93636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3"/>
          <a:stretch/>
        </p:blipFill>
        <p:spPr>
          <a:xfrm>
            <a:off x="1476360" y="2924280"/>
            <a:ext cx="6769080" cy="93636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4"/>
          <a:stretch/>
        </p:blipFill>
        <p:spPr>
          <a:xfrm>
            <a:off x="1042920" y="3948120"/>
            <a:ext cx="67690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图片 65537" descr=""/>
          <p:cNvPicPr/>
          <p:nvPr/>
        </p:nvPicPr>
        <p:blipFill>
          <a:blip r:embed="rId1"/>
          <a:stretch/>
        </p:blipFill>
        <p:spPr>
          <a:xfrm>
            <a:off x="233280" y="2004840"/>
            <a:ext cx="8677440" cy="284832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2"/>
          <a:stretch/>
        </p:blipFill>
        <p:spPr>
          <a:xfrm>
            <a:off x="684360" y="3156120"/>
            <a:ext cx="7416720" cy="47304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3"/>
          <a:stretch/>
        </p:blipFill>
        <p:spPr>
          <a:xfrm>
            <a:off x="684360" y="3716280"/>
            <a:ext cx="741672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图片 64513" descr=""/>
          <p:cNvPicPr/>
          <p:nvPr/>
        </p:nvPicPr>
        <p:blipFill>
          <a:blip r:embed="rId1"/>
          <a:stretch/>
        </p:blipFill>
        <p:spPr>
          <a:xfrm>
            <a:off x="257040" y="687240"/>
            <a:ext cx="8629920" cy="598176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2"/>
          <a:stretch/>
        </p:blipFill>
        <p:spPr>
          <a:xfrm>
            <a:off x="784080" y="2765520"/>
            <a:ext cx="6193080" cy="109512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3"/>
          <a:stretch/>
        </p:blipFill>
        <p:spPr>
          <a:xfrm>
            <a:off x="7020000" y="3040200"/>
            <a:ext cx="1944720" cy="47304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4"/>
          <a:stretch/>
        </p:blipFill>
        <p:spPr>
          <a:xfrm>
            <a:off x="900000" y="3832200"/>
            <a:ext cx="5400720" cy="47304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5"/>
          <a:stretch/>
        </p:blipFill>
        <p:spPr>
          <a:xfrm>
            <a:off x="755640" y="4465800"/>
            <a:ext cx="7488360" cy="4730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6"/>
          <a:stretch/>
        </p:blipFill>
        <p:spPr>
          <a:xfrm>
            <a:off x="684360" y="5013360"/>
            <a:ext cx="7488000" cy="47304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7"/>
          <a:stretch/>
        </p:blipFill>
        <p:spPr>
          <a:xfrm>
            <a:off x="684360" y="5603760"/>
            <a:ext cx="8280360" cy="47304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8"/>
          <a:stretch/>
        </p:blipFill>
        <p:spPr>
          <a:xfrm>
            <a:off x="611280" y="6180120"/>
            <a:ext cx="828036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图片 63489" descr=""/>
          <p:cNvPicPr/>
          <p:nvPr/>
        </p:nvPicPr>
        <p:blipFill>
          <a:blip r:embed="rId1"/>
          <a:stretch/>
        </p:blipFill>
        <p:spPr>
          <a:xfrm>
            <a:off x="247680" y="828720"/>
            <a:ext cx="8648640" cy="555300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2"/>
          <a:stretch/>
        </p:blipFill>
        <p:spPr>
          <a:xfrm>
            <a:off x="684360" y="2838600"/>
            <a:ext cx="6983280" cy="73476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3"/>
          <a:stretch/>
        </p:blipFill>
        <p:spPr>
          <a:xfrm>
            <a:off x="1332000" y="3745080"/>
            <a:ext cx="6480000" cy="47304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4"/>
          <a:stretch/>
        </p:blipFill>
        <p:spPr>
          <a:xfrm>
            <a:off x="755640" y="4437000"/>
            <a:ext cx="6983280" cy="73512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5"/>
          <a:stretch/>
        </p:blipFill>
        <p:spPr>
          <a:xfrm>
            <a:off x="1116000" y="5300640"/>
            <a:ext cx="6480360" cy="47304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6"/>
          <a:stretch/>
        </p:blipFill>
        <p:spPr>
          <a:xfrm>
            <a:off x="1116000" y="5877000"/>
            <a:ext cx="648036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2" name="图片 62465" descr=""/>
          <p:cNvPicPr/>
          <p:nvPr/>
        </p:nvPicPr>
        <p:blipFill>
          <a:blip r:embed="rId1"/>
          <a:stretch/>
        </p:blipFill>
        <p:spPr>
          <a:xfrm>
            <a:off x="382680" y="189000"/>
            <a:ext cx="8582040" cy="637200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2"/>
          <a:stretch/>
        </p:blipFill>
        <p:spPr>
          <a:xfrm>
            <a:off x="755640" y="4667400"/>
            <a:ext cx="5040360" cy="93636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3"/>
          <a:stretch/>
        </p:blipFill>
        <p:spPr>
          <a:xfrm>
            <a:off x="611280" y="5675400"/>
            <a:ext cx="504036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60428" descr=""/>
          <p:cNvPicPr/>
          <p:nvPr/>
        </p:nvPicPr>
        <p:blipFill>
          <a:blip r:embed="rId1"/>
          <a:stretch/>
        </p:blipFill>
        <p:spPr>
          <a:xfrm>
            <a:off x="1566720" y="1138320"/>
            <a:ext cx="6010560" cy="45813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3564000" y="3803760"/>
            <a:ext cx="1079280" cy="4730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5651640" y="4537080"/>
            <a:ext cx="1079280" cy="4730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3059280" y="5099040"/>
            <a:ext cx="107928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59410" descr=""/>
          <p:cNvPicPr/>
          <p:nvPr/>
        </p:nvPicPr>
        <p:blipFill>
          <a:blip r:embed="rId1"/>
          <a:stretch/>
        </p:blipFill>
        <p:spPr>
          <a:xfrm>
            <a:off x="1571760" y="1457280"/>
            <a:ext cx="6000480" cy="39434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4788000" y="1628640"/>
            <a:ext cx="1152360" cy="4730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4427640" y="2579760"/>
            <a:ext cx="1152360" cy="4730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2340000" y="4826160"/>
            <a:ext cx="1152360" cy="4730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4341960" y="4840200"/>
            <a:ext cx="115236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58373" descr=""/>
          <p:cNvPicPr/>
          <p:nvPr/>
        </p:nvPicPr>
        <p:blipFill>
          <a:blip r:embed="rId1"/>
          <a:stretch/>
        </p:blipFill>
        <p:spPr>
          <a:xfrm>
            <a:off x="1652760" y="706320"/>
            <a:ext cx="594360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57352" descr=""/>
          <p:cNvPicPr/>
          <p:nvPr/>
        </p:nvPicPr>
        <p:blipFill>
          <a:blip r:embed="rId1"/>
          <a:stretch/>
        </p:blipFill>
        <p:spPr>
          <a:xfrm>
            <a:off x="1566720" y="1757520"/>
            <a:ext cx="6010560" cy="33429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3708360" y="1757520"/>
            <a:ext cx="3959280" cy="4730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468360" y="2421000"/>
            <a:ext cx="3959280" cy="7920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4"/>
          <a:stretch/>
        </p:blipFill>
        <p:spPr>
          <a:xfrm>
            <a:off x="4529160" y="2565360"/>
            <a:ext cx="3959280" cy="4730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5"/>
          <a:stretch/>
        </p:blipFill>
        <p:spPr>
          <a:xfrm>
            <a:off x="28440" y="3371760"/>
            <a:ext cx="3959280" cy="7923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6"/>
          <a:stretch/>
        </p:blipFill>
        <p:spPr>
          <a:xfrm>
            <a:off x="4067280" y="3457440"/>
            <a:ext cx="3959280" cy="4730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7"/>
          <a:stretch/>
        </p:blipFill>
        <p:spPr>
          <a:xfrm>
            <a:off x="826920" y="4292640"/>
            <a:ext cx="52578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图片 56324" descr=""/>
          <p:cNvPicPr/>
          <p:nvPr/>
        </p:nvPicPr>
        <p:blipFill>
          <a:blip r:embed="rId1"/>
          <a:stretch/>
        </p:blipFill>
        <p:spPr>
          <a:xfrm>
            <a:off x="1581120" y="1557360"/>
            <a:ext cx="5981760" cy="37432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3635280" y="4681440"/>
            <a:ext cx="50508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55300" descr=""/>
          <p:cNvPicPr/>
          <p:nvPr/>
        </p:nvPicPr>
        <p:blipFill>
          <a:blip r:embed="rId1"/>
          <a:stretch/>
        </p:blipFill>
        <p:spPr>
          <a:xfrm>
            <a:off x="228600" y="819000"/>
            <a:ext cx="8686800" cy="57056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8244000" y="2421000"/>
            <a:ext cx="431640" cy="4046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2195640" y="4135320"/>
            <a:ext cx="1008000" cy="4050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5148360" y="4119480"/>
            <a:ext cx="1008000" cy="4050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2195640" y="5141880"/>
            <a:ext cx="431640" cy="5475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6"/>
          <a:stretch/>
        </p:blipFill>
        <p:spPr>
          <a:xfrm>
            <a:off x="2987640" y="5891040"/>
            <a:ext cx="1224000" cy="5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图片 54276" descr=""/>
          <p:cNvPicPr/>
          <p:nvPr/>
        </p:nvPicPr>
        <p:blipFill>
          <a:blip r:embed="rId1"/>
          <a:stretch/>
        </p:blipFill>
        <p:spPr>
          <a:xfrm>
            <a:off x="228600" y="976320"/>
            <a:ext cx="8686800" cy="49053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8317080" y="1557360"/>
            <a:ext cx="431640" cy="4046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3"/>
          <a:stretch/>
        </p:blipFill>
        <p:spPr>
          <a:xfrm>
            <a:off x="8288280" y="2781360"/>
            <a:ext cx="432000" cy="4046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4"/>
          <a:stretch/>
        </p:blipFill>
        <p:spPr>
          <a:xfrm>
            <a:off x="8302680" y="4869000"/>
            <a:ext cx="43164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图片 52231" descr=""/>
          <p:cNvPicPr/>
          <p:nvPr/>
        </p:nvPicPr>
        <p:blipFill>
          <a:blip r:embed="rId1"/>
          <a:stretch/>
        </p:blipFill>
        <p:spPr>
          <a:xfrm>
            <a:off x="190440" y="1133640"/>
            <a:ext cx="8763120" cy="45907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423720" y="2276640"/>
            <a:ext cx="5472360" cy="4046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5940360" y="2290680"/>
            <a:ext cx="3024360" cy="4050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4"/>
          <a:stretch/>
        </p:blipFill>
        <p:spPr>
          <a:xfrm>
            <a:off x="395280" y="2722680"/>
            <a:ext cx="763560" cy="4046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5"/>
          <a:stretch/>
        </p:blipFill>
        <p:spPr>
          <a:xfrm>
            <a:off x="1187280" y="2708280"/>
            <a:ext cx="2016360" cy="40464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6"/>
          <a:stretch/>
        </p:blipFill>
        <p:spPr>
          <a:xfrm>
            <a:off x="468360" y="4307040"/>
            <a:ext cx="6480000" cy="40464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7"/>
          <a:stretch/>
        </p:blipFill>
        <p:spPr>
          <a:xfrm>
            <a:off x="395280" y="4797360"/>
            <a:ext cx="6480360" cy="40500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8"/>
          <a:stretch/>
        </p:blipFill>
        <p:spPr>
          <a:xfrm>
            <a:off x="395280" y="5200560"/>
            <a:ext cx="648036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08:57:23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